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D5B-7E83-491E-AC1D-E7F4866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E23-4C4A-4B31-9F7D-0928E28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04689-D2BA-4A54-9100-E69150EB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5AF91-4562-476F-B3D5-F7B83B37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B1F8C-299C-4766-9078-B9C1D05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A6CA2-5EF2-4BE6-AA38-F398760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073E5-FB37-47DE-AE9F-66989C8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A8870-DFBD-4D3F-A591-7BEA0A5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8B93F-592A-4BD4-9271-3600CB7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671EA-D646-4F77-9CCE-F36FCED8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4504D-00CF-4DA1-9C4D-5B30895A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857D2-25B0-45C5-B25D-C0DFC15C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26B-0B8D-4106-BE9D-E470B51E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972A4-C19D-4F8C-80CC-D4F0FF5C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34E6A-558C-42DB-ACCC-7A2284F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FDE66-E0D2-4166-B575-73F998E0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081C1-693F-4D1A-B530-5E37770D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BCA9B-43DD-45F6-9A0D-C5265AC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3D080-5CC7-4BEB-8388-C130BF9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70FD3-D0FB-47EF-897E-7FD23875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2C378-BAF3-4725-AF14-4D4365A4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F343F-5383-438B-895D-646A3DF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3F486-974A-4C42-98BA-D8F3A0FC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37E-7D60-46A5-B1AB-CCD4E8D9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0892E-CBBA-4905-A195-7996A8AB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41935-2207-4254-99DA-009948CC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58C76-8DFB-49F9-88BB-1F145737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B2C5-DDD0-4198-888C-AB983B9C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C3945-A06B-42EF-89FE-9193890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188D6-BD1D-4FFC-A75E-7B586342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22FC-B8F2-47AA-AE4C-E40D9DE7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67ED6-4D62-4056-B147-04E03D2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37DE-85BB-4A1C-B835-D79A25F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02633-2F91-4A00-9632-5E881D9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113-719C-4630-8022-86053522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6B0EE-D2D8-4ED9-B71F-1DBF6E8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40AF5-1548-4AAB-B4B9-7F0FBC54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17E58-83B8-4D1D-A3DB-D31B6FFF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F210D-82E9-4BA5-A17F-D9B372A3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DF8C-61B1-4D7D-969B-54DAD243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3A894-07F7-4F89-B7E2-92BE358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C9F0C-0F9E-43B8-99C2-06D5765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0218B-653E-4476-900D-1C3455B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27701-09E9-451E-8E16-3680CC8B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8F8AC-E9DA-4B3B-BC6A-7081234A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380-E11E-4FEA-933D-F82F52F8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53B02-9E13-4BF2-A8C0-CBC3397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8FDF2-84C6-497F-A3B5-1B93A78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E2E1-54A7-4342-9060-78A5E63E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8AE20-0995-45BE-B4F4-2FBA55EF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BF044-4CA0-4571-8E75-48AD409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0C50D-3F3A-483C-B43E-ED8D538B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D7623-C157-4D59-8411-8CA9D336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7E837-DAFF-4E85-8492-011BB705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9E4C3-BB65-4C27-B95D-EA4CB20A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28FD4-B1B6-4B9E-B982-F72FB63B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6A7-3069-4AD5-9475-6DA31E1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03043-DF0F-4460-88B5-36595D7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0B68B-09A1-4108-9BAB-6CD61B2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4D701-03BE-4A01-B58D-F77DA63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50986-D406-4487-B8C7-C83B809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D529C-8978-4CAE-86DA-3ED7C644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1E6CF-4153-4313-98C7-E2FE987C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CDFE6-F71D-49FD-84BD-85FAF073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B8081-FD4F-4243-BB39-E5DEEBBF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CCC9C-BFA3-4B65-BA1F-E965C673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24101-A842-4018-BAF7-31F13635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4C2C-57EE-4D69-8A6D-F50F31B0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5BD60-A7BC-4653-A619-DA7E3AFD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28603-EC72-4995-BBCF-A92F31EF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F879A-6F84-4312-8AC0-CB0990D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7C729-EC51-4370-BF10-6F84AC4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B442E-FE52-412C-9B72-31E6385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05CB2-5F94-431B-9EE1-C58FD4C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A872C-7A9A-42EC-A5A0-D7CFF2F8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65BE0-C3BC-45C1-82D2-86F474BD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77D15-BD9C-4E71-9AC0-E4ED0D68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81F92-5AB1-42F4-A699-25C43233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E351-4C53-44ED-B9E9-5C2FCB33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3C584-C45F-459B-B70D-719C2539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2F3AF-D056-4C2C-88CF-19B2656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54B5B-24EC-4BB3-B428-21B6517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23146-BDB9-4D1B-BC54-90F8BF8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B2690-C2F2-45DA-8B64-570A80E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542F5-9757-4B01-82F3-623F919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20014-5139-4981-A5E2-AE7E1AA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8CFB1-25E9-46B2-949A-06342D71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91988-C3AF-4446-B43C-1A0BF25E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30DF0-D9C9-409E-81CB-A3B5B92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D7DC-0DB1-4809-9B49-F4F637B6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445BA-8EDB-4806-91D4-8C536491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DF6C5-0766-4A3E-B4E1-E1827D52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906B7-B08A-4D14-9798-701C1E9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D2527-5DC8-4F74-AC2F-3FD50069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EF32D-826D-40C4-8857-14DBF0D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8124F-0C4F-4A53-83E9-F1A9FF9D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224F4-4DB5-4CF9-8401-2BE97B4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6A2DF-7D48-43C7-BA09-D3330EB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6413E-DBFE-4C48-BD35-74F0C3D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37F04-B548-4D3E-9E03-AE48E42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AFB2-6F7C-4923-B160-6FC50297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16D41-29EB-45E8-80A3-D8B3460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63DDE-A519-4574-B4E1-0004AEE5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9072D-31C9-4683-83C2-EAE941C3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2D112-4ACA-4D61-AC0F-49A1EB22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19627-64E6-4EDF-B5E0-7AB4C1B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7E7A1-45C0-46DC-8E3F-C606526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DF4B62-C73E-4EB0-B493-0D836E17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DE3AA-D020-49B0-BC92-C5FF8D9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43D9D-A20B-4A8F-BC44-A5B8BD41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B31D9-58A7-409B-9861-8B3C952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49D-2595-44BC-956B-087A9DFF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AC30-9F8A-409A-BA2A-1E1B0C4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AEF7F-78CC-4667-81F1-2099208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71DF0-05F9-4D6B-B334-C53E515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87FE9-488E-4F8B-97CD-16AB8161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A7642-F66D-4466-B4A3-AD4E0984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0A80D-BC5E-4805-B5EB-98F96AA6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FAF55-AF09-4392-8F7B-A1A199C8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9AB0D-52E8-4632-B88E-621A8A4D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36CCB-D861-4463-B478-ED14486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AE6EB-D5D1-4B27-AF94-30952021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3142D-45C0-4E3B-9922-B461A5B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3550-5C83-411E-A472-71E2391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2C2C5-C248-4A2D-9FD8-017E50BF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AB94B-A0A7-4089-949D-5B6C0A9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62171-07C0-4561-B065-770F1C3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887B8-73C8-48C1-B2C6-CBAEF57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83FFE-5011-4934-94CA-4D2CF1D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FC262-7037-413E-AD36-FAD35372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D2150-2B46-41F8-A671-0775A034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02BAD-9FC9-4F02-BFF1-9C75C48B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94C294-814A-43E4-B826-73E5061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C5FBA-B5F7-4333-A091-ED8E9EA5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02C-D459-4CC0-8BD1-C2A0D71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3589E-D578-4C21-9532-6832FD53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A1B11-07AF-487F-9139-AFC72EBB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00FEA-BAF3-451D-8B6F-04B3E7D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67871-7A3C-427C-9E84-14BAC49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80D4A-85A7-4F28-8A49-5C320ED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B61B7F-10F7-4B90-B461-1B84195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A67AB-BAD1-448E-A597-270A0DDD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D1A69-6929-4989-94BD-02455ADC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0049F-7F96-447B-AB7E-A171321C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E3148-4C82-4222-9ECC-15B6B7B7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C505-267D-4403-8442-2F0E835A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94EDE-7CF2-48E9-81FD-CE4BDF4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4E20E-350E-4E85-AD15-A141817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EBEF3-63CB-4848-9FB1-1682938B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10867-E504-463C-98A6-2D46EDC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DEB0B-66EA-4F6B-B8B3-4A1ED7F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EAF5C-08A4-40C2-92D3-FB94F01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279AB-B222-4CC3-990C-A396C65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97C19-3A30-45E5-B6BF-5EE9126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8C801-AE1A-4561-B607-CF34CAE5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0BA1A-B3CA-40C9-8A73-E4541C1E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2319-03FE-4DDB-9B6A-03729AF5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584DB-7664-40A1-AF47-855C9201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F5E85-4058-45CB-AE9B-2D11C39C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D8233-EE6A-4F54-B139-C0662B8D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32880-0F6D-4928-9275-25EA547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AE783-5BD7-4F8A-BF8F-0890154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079CF-2E6E-499C-B38D-72E1B740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7037F-3FEB-4743-A8FD-D7863D6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3C96F-694D-4C8B-895D-AF5827E5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743CA-AE15-46B8-A838-CC5A19BB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35520-4B5E-43DE-B14F-C959053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3EF4-1E80-4D62-915E-543FA2AB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72A34-0DE1-4344-B716-34E074AC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AC2A0-008D-4858-A1D4-BCAC66AF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896AB-2F36-4527-8469-A90F39CB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C5D2F5-D40F-480E-8906-E8B0C529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F7CB94-8A55-432E-A26C-62C6F92D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131B8-EC12-4734-9590-BE16488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23A5F6-45DC-4731-8281-1351C143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654B7E-24A1-4F32-937D-D65A4C5A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C128CD-03BF-4935-9DC1-B49FC7E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A1670A-C171-4E17-A678-07195DF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660E-9E2D-489D-A583-CDD05A23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F39ADC-16D1-42A6-99C4-F2EF093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19DAAC-31D7-46C1-92D0-8900FFC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1B77D0-FD57-4BDB-A6A8-49E7B87C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8C6018-D94B-4AB2-BD78-C9170050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4CBC33-C875-41A2-BCF1-180E5170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558FD6-3CD1-48D1-B33F-D6369013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A611FB-C538-4E59-9D47-22EF2AF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06C62-82A9-4CA3-900F-6D213E2C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0BBF64-BF8B-4624-BD37-BC622A6D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AD267E-66DF-44E3-9B66-82A43E8D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8EA7-32F4-4C63-8838-7FBA1F1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006CB9-5590-4B81-B54A-F379985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BA66C5-0423-4A25-B15B-00EDDF0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C3C5F6-BD56-4E4C-B3D9-2A6C8A6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049954-9D8D-43D4-B031-EE7B352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D3972F-5BF0-4BAE-A64F-9378325F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6E8FF4-100C-4F04-A846-55A338FC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13AC14-5EF2-4F1B-9331-49292908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C283-D931-4B3C-9ED6-582D368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2720-2FD8-45C0-9F64-0CFA2C5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497-B686-47FE-A2CE-1217A3C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CFDB-093F-4F06-9BF3-20AE01BD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F733-38BC-4C74-91CA-43B0968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CD06-F6BA-42F0-925B-E08F3D45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2B4F-FB52-4A9F-9625-AB6DF80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F791-C878-4A2A-9D3A-369F7158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3E54-C370-4439-A035-DA36C09F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9F79-4FC0-420A-9ECE-13A97468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28F9-EAB3-4678-9233-CB7B19A6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0A7E-6406-4EE8-9103-90312B7D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2B05-A0A9-4F56-BE3C-6B9B8BD0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FAE-A3C1-49A3-BF12-C16C5E15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03F8-BA6D-4ADE-81C3-60893EA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8479-CED4-470A-B4C2-6633F80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5601-80D6-4CB4-8B6C-AFCEFDD9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FE1A-F9F5-4E1F-AB9E-983E125E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7DE71-2A8C-47AE-83B0-68F0D6C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89C6-ADD1-4A0E-A772-E9DEA038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6984-8167-4EFA-B442-8E2CE6A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F95A-1654-4A12-AD67-B6509064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48AD-57F4-4D50-8A8A-E828CBF5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C8FD3-24B6-4907-B2D5-85DE45F7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02F-D218-430E-954F-737A5411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B436-C86F-463D-9967-FF936A03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B69F3-79A1-4CC8-860C-1854463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6F76-8466-4AE7-A1F5-BD522E07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77A1E-2093-40B5-963E-4A0B4CB2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62C9-9218-4EE3-A8A1-D40DFB08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D92B-5E91-4375-BB8B-43CBA1B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6F2F-DA45-4FF7-9964-99D8268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019E-98A5-4555-8C3A-ECDD03E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25FC-9BCB-4314-B8FE-6E0ABB0E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C491-C5C2-4228-BDBA-5F4659B5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22E-B278-448B-8244-B066C9D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AD43-0683-4CE3-9925-EEBD8724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1D9F-785A-4B28-8AC1-952D2DE8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063E3-6047-49EC-A868-35AA638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C81C8-3E17-4347-9DB7-B5395DD5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912D-A5AD-4553-9783-050BE486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6D88-54ED-4504-B86F-B56E85FA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FE4FF-43E5-4069-89B7-33662429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A9E1-D863-4C17-89D6-1701378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862D-9B43-4D07-ACA5-3593E38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51A0-70E3-461C-9999-056ED18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519-8210-45A4-8C3D-51A699D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979D-DF1C-4121-A12B-0C235F4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5A73-8677-4A12-B31D-0A7E4B47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F96E-64AB-48FC-B653-E4AEBB08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8E8F-2DB5-416A-89D6-BF92F039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7EEC-9D0A-4327-902A-F6940A76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0EA0-D604-4C77-92A4-EB985EA9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DBC0-F10F-4828-9782-12D1D68C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D9B9E-0DE7-4375-999C-9A18B46E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2DF1-29B6-4311-B886-E01B10B8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11271-1CE1-450B-B06B-7F5FA27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C3F-4DB9-4D7F-9D2E-56088DE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C9F1-4B7E-4665-B271-88922BD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FD15-9C11-4BED-834C-A34EA32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8FCC-F6F7-4733-9A71-2512102A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725C-8BCB-45DA-8F6B-C8275A65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662E2-9542-461F-B575-782B934D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22AD-8128-4E2F-B90C-7C423B4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8021B-83AE-4C0F-8434-03294C2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0BCF-EF0C-4D1C-932B-D587C738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77A27-C0D5-41D4-9586-1FB2312E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EE872-87BF-4FC8-B8E8-0DAB646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529-CC83-47EB-8A74-7566350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15CF-171B-4E46-8307-0E33BE58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346D-E4E2-48EA-9B71-EFE2ED5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DB92-9AC0-44E3-9FD8-63335DD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6FF6-B2BE-4B26-AEBF-A7C3FDB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16B3B-C127-4374-9377-5A9EC673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D4AE-9459-405D-9824-AAA5AA54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CC14-4B61-4757-A56F-5916966D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69867-114D-4CC9-A2E9-F3958302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94830-153D-46DF-BE89-1AF50BDB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1D946-12C7-4E4E-9AB6-16117CDD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7DF-EE36-4589-A938-969E8BE2A8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95C8-000F-4760-A9EA-C1DDCAEB5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E06-FF75-4AF9-A6DF-2A53446D6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C13-80AB-4DFF-84DC-559349A9C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88F4-A236-4FE0-A57C-7751E235C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371D-BAC3-4E68-A430-CD5E46B0B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ECC7-63D1-4278-893C-F50E5B636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1D4-31C7-4627-B91C-AB23E2A28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6BD-2F0A-40EA-9BC5-97FD4F5FE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578-1195-4213-8DAC-0BD52280FE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1A4C-561F-43D9-B00C-77BD352DE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E4DF-62AD-4DED-AC61-87E166A4F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6EC-F3A7-40CC-89A7-C70E9D18B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8798-D53A-446B-BF82-F4867A379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187-11A1-4D4A-A287-F74D5AF74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9927-49ED-42C2-9FCB-577D13433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D293-6AB8-49C3-AB6A-0B59A8DE36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8536-3350-4DC7-845B-FEE434C5F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EA06-D2BA-46EE-8028-8EBE09F93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3D90-C09B-4268-AF44-BE9EEF05C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6582-1023-4AAD-883C-5AB7191B5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BF5F-8DF1-4A59-BF9F-CB1F158820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14C-435D-420D-ACEB-08F45BC70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8F09-2D70-4F3F-84ED-0F26D22FD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3C80-B6B8-4C5C-8E91-510988E9C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2EC-ED59-452D-A2CD-6FB4EADFB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8EC3-5FE2-4E3E-B94D-ECD79C1761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DE17-83DA-4803-97F8-36DADA292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EB65-D487-41F2-90F1-A156A05B0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FFB-D89C-49FA-BC7B-FA9180592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5FA0-8C79-4A7C-9139-1F08BE2B3D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184-21C6-429C-BAA8-FC1042EE0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C34-7883-4C4B-90A1-E4D9A5F72E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3914-A68D-4E3E-B166-56D486CE31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E5E4-B0F5-4CC9-9B45-0EBB323700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5F30-0504-402C-B83F-393CFD4D36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0ACE-BB00-4FCB-900F-FD683C922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CA45-7B52-4668-8392-7F414AABD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9066-F28E-458E-A43E-E02E8AC0A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385D-22BF-4194-9FB2-42FB93C52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9105-81D7-4507-9237-B0C0AFEA05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ADC8-38D8-414F-9290-188B3FF9E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00040" y="3029040"/>
            <a:ext cx="8143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271440"/>
            <a:ext cx="8724960" cy="6315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26920" y="327024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7993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52360" y="919080"/>
            <a:ext cx="8639280" cy="5019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799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181080" y="704880"/>
            <a:ext cx="8781840" cy="6048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332000" y="5416560"/>
            <a:ext cx="748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23800" y="1990800"/>
            <a:ext cx="8096400" cy="28764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41641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23920" y="852480"/>
            <a:ext cx="8696160" cy="51530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826920" y="348624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84360" y="5041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71360" y="876240"/>
            <a:ext cx="8801280" cy="5686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427680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76360" y="508464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5921280"/>
            <a:ext cx="72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852480" y="1380960"/>
            <a:ext cx="7439040" cy="4096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187280" y="233352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472428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71360" y="895320"/>
            <a:ext cx="8801280" cy="5067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5214960"/>
            <a:ext cx="749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6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